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7374-C67A-4F69-AF51-856B6AFA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679E-585C-487C-99C2-68ACF423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EB22-A399-4AC8-94D1-574A7AC4E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28A9-273C-49B0-B09E-5775EF99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E9421-56A2-4A48-848D-B713C9FD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F06E8-CFE1-4128-B570-43E5ABE1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9A597-4FD5-4F11-9C69-E7BEC3EA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7F055-8D97-46E9-BA7A-E5F4F251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D7CBB-6AE4-4EFF-9288-C2ADD77B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D1F58-A22C-4313-9F24-A12474EF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4DCE4-BA61-473D-8AE5-9D547B2C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8399-FE53-4C7D-B8B9-607C0EA7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BB99C-CD8E-48B6-BF0B-3EFA11DC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E589C-270A-4B3F-A88A-76E2828A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3344D-7BDA-4BCA-BE8B-0BCDA909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0C5D9-1620-4C3E-8159-C9EF4EA3E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B8571-E35B-489F-A96C-F04979E27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BA7D-86F7-4A40-8C9E-E940D5A7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9A78-9058-431F-B969-1BE663BF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A618-86C4-4D31-86E5-AE6F7948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BEB3-F3BE-4EC3-B978-AA3C671C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EE0F-822F-4E91-9601-21271680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7E7C-2157-45D8-85E8-8C7C1B84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B380-55D2-4CDC-AB15-E3729051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2DA2-7A9E-4865-B813-3A6E08C552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DCB2-9E67-4867-8E8B-8344BED35C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42920" y="333360"/>
            <a:ext cx="4753080" cy="9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uwashshaha XX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Miradas de dulce embrujo de am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me han llenado el alma, más 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grana de esa bo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que aún al censor es sagr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Si el corazón de esa cierv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se ablanda, posará el mí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e su rebaño no cui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ni ve que el mío se ha huí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lla es todo para el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y para mí, y la he perdi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Éstas son, ay mis censore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de amor señas declarad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suspiros abrasadore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aunque se aneguen en lágrimas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00000" y="0"/>
            <a:ext cx="42483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Lo que 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ese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talle de pal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carga sobre mí me abrum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Que yo vele y ella duerm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me conduce a la locu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No halla el corazón respir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e tanto amor y amargu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Deja de mi ser un poc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(ni creo que a quedar vaya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y así  verás a qué extrem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me conduce mi desgra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Mía, al lado de Hauzáni, es la flecha ganadora.¡Oh sable fino del Yemen al que sus hazañas doran; ángel con semblante humano que la descripción desborda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león de las espesura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muerte que plazos señala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aurora que, cuando brill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el mundo entero engalana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92360" y="0"/>
            <a:ext cx="7200720" cy="74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Abu Hafs, párate un punt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Magias te recito: atien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e ti se gloria el imperi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e un corazón bravo y fuer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l mío toma en albricia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si a tu lado has de acogerm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Para nutrir a los homb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Dios te hizo a ti pura dádiv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¡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Tanta merced celebremos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¡Subamos cimas tan alta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050920" y="907920"/>
            <a:ext cx="4700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32000" y="765000"/>
            <a:ext cx="55846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A una de teñidos dedo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que es de la belleza esenci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oncella que todos mir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y que: ilumina estas tierra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fuí a ver, entrando el veran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y cantó por mí y por ell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¡ALBO DlYA H ESTE DlYA H 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lYA DEL  ANSARA HAQQA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BESTlRÉY ME-W L-MUDABB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WA NASUQQU R-RUMHA SAQQ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[ALBO DÍA ESTE DÍ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DÍA DE LA ANSARA EN VER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VESTIRÉ MI JUB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QUEBRAREMOS LA LANZA]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01:16:12Z</dcterms:created>
  <dc:creator> </dc:creator>
  <dc:description/>
  <dc:language>en-US</dc:language>
  <cp:lastModifiedBy> </cp:lastModifiedBy>
  <dcterms:modified xsi:type="dcterms:W3CDTF">2007-09-29T01:46:28Z</dcterms:modified>
  <cp:revision>4</cp:revision>
  <dc:subject/>
  <dc:title>Diapositiva 1</dc:title>
</cp:coreProperties>
</file>